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7DBE7-114B-47B6-9042-A9EBF4FFB1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990BE-53BE-4039-A299-408D1840AA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7E77-6B68-4F62-9118-A4519034A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019B-B506-4D2A-85F7-85FA742BE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46DF-D032-4DBC-8CFD-2C97422E4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3E92-3BC2-4F13-873F-31010A27F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C1ADA-553D-46EC-89F3-279AC0107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6BC71-5B89-4F9C-9562-A6747B3E5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06F37-17EF-415E-BEBB-4C0723EE4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C7566-C422-4663-A790-3F3038303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B482A-E556-478C-A183-D12A9AF9A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436CE-0933-4819-AB74-62E36914D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B7072-F7B2-48AD-914F-AE75A372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6AB3-B25D-40D0-AEEF-7AFCEA02F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3CBB3-80EB-4BA3-8253-CDCF47C9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39329-F96C-4DED-95C8-DE52192E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79741-23F8-463D-BBED-6E7E09BC4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2919A-BC44-4110-8738-BE1F227F1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11F3B-58C6-4314-82A0-55D6B0B6B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00D1-72C8-4104-B557-008338EBB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D13E-E736-4C92-B74A-3822C5438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6A65-5E03-4E6B-98AA-9E02DA8D3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3F11-84CD-414D-A50B-BCD7BC0A3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5C90-E557-4113-8AC5-D29E6AC2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00C7-8FDB-4B4D-9CB7-E4C2C24B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AB31-1FC6-4136-815B-0312BDF4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5D9BB-AFB2-474D-9195-0499F484E3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2EE2-397E-412D-8F51-A3B7802AEE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7.wmf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This is a preview only. Click Download Now to download the template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This is a preview only. Click Download Now to download the template."/>
          <p:cNvPicPr/>
          <p:nvPr/>
        </p:nvPicPr>
        <p:blipFill>
          <a:blip r:embed="rId2"/>
          <a:srcRect l="15001" t="83506" r="79171" b="13164"/>
          <a:stretch/>
        </p:blipFill>
        <p:spPr>
          <a:xfrm>
            <a:off x="1295280" y="4876920"/>
            <a:ext cx="2895840" cy="1066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This is a preview only. Click Download Now to download the template."/>
          <p:cNvPicPr/>
          <p:nvPr/>
        </p:nvPicPr>
        <p:blipFill>
          <a:blip r:embed="rId3"/>
          <a:srcRect l="21818" t="31071" r="5456" b="49518"/>
          <a:stretch/>
        </p:blipFill>
        <p:spPr>
          <a:xfrm>
            <a:off x="838080" y="3886200"/>
            <a:ext cx="5105520" cy="762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This is a preview only. Click Download Now to download the template."/>
          <p:cNvPicPr/>
          <p:nvPr/>
        </p:nvPicPr>
        <p:blipFill>
          <a:blip r:embed="rId4"/>
          <a:srcRect l="21818" t="31071" r="5456" b="49518"/>
          <a:stretch/>
        </p:blipFill>
        <p:spPr>
          <a:xfrm>
            <a:off x="838080" y="4572000"/>
            <a:ext cx="5181840" cy="76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This is a preview only. Click Download Now to download the template."/>
          <p:cNvPicPr/>
          <p:nvPr/>
        </p:nvPicPr>
        <p:blipFill>
          <a:blip r:embed="rId5"/>
          <a:srcRect l="14548" t="69911" r="63641" b="28163"/>
          <a:stretch/>
        </p:blipFill>
        <p:spPr>
          <a:xfrm>
            <a:off x="685800" y="4648320"/>
            <a:ext cx="7772400" cy="533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This is a preview only. Click Download Now to download the template."/>
          <p:cNvPicPr/>
          <p:nvPr/>
        </p:nvPicPr>
        <p:blipFill>
          <a:blip r:embed="rId6"/>
          <a:srcRect l="84366" t="17475" r="8363" b="72819"/>
          <a:stretch/>
        </p:blipFill>
        <p:spPr>
          <a:xfrm>
            <a:off x="457200" y="1523880"/>
            <a:ext cx="8229600" cy="533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This is a preview only. Click Download Now to download the template."/>
          <p:cNvPicPr/>
          <p:nvPr/>
        </p:nvPicPr>
        <p:blipFill>
          <a:blip r:embed="rId7"/>
          <a:srcRect l="15001" t="83506" r="79171" b="13164"/>
          <a:stretch/>
        </p:blipFill>
        <p:spPr>
          <a:xfrm>
            <a:off x="838080" y="533520"/>
            <a:ext cx="7239240" cy="5047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975960" y="3236760"/>
            <a:ext cx="6164280" cy="171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Objective:  Solve real world formulas in terms of other variabl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entury Gothic"/>
              </a:rPr>
              <a:t>Literal Equation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Review:  Solve the following equations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45200" y="1687680"/>
            <a:ext cx="29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s – 4s + 11 = 2 – 3s + 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1204560" y="2130480"/>
            <a:ext cx="20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2s + 11 = 9 – 3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1141200" y="2522520"/>
            <a:ext cx="214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3s                +3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1204920" y="2917800"/>
            <a:ext cx="21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917800" y="2206800"/>
            <a:ext cx="246240" cy="66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/>
          <p:nvPr/>
        </p:nvSpPr>
        <p:spPr>
          <a:xfrm>
            <a:off x="1457640" y="3033720"/>
            <a:ext cx="13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+ 11 = 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/>
          <p:nvPr/>
        </p:nvSpPr>
        <p:spPr>
          <a:xfrm>
            <a:off x="1793160" y="342432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1   -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2003400" y="3090960"/>
            <a:ext cx="24624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/>
          <p:nvPr/>
        </p:nvSpPr>
        <p:spPr>
          <a:xfrm>
            <a:off x="1450800" y="3817800"/>
            <a:ext cx="15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/>
          <p:nvPr/>
        </p:nvSpPr>
        <p:spPr>
          <a:xfrm>
            <a:off x="2026440" y="388620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= -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/>
          <p:nvPr/>
        </p:nvSpPr>
        <p:spPr>
          <a:xfrm>
            <a:off x="4892400" y="1679400"/>
            <a:ext cx="22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n – 2(3 – n) = -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/>
          <p:nvPr/>
        </p:nvSpPr>
        <p:spPr>
          <a:xfrm>
            <a:off x="5068800" y="2160720"/>
            <a:ext cx="21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n – 6 + 2n = -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/>
          <p:nvPr/>
        </p:nvSpPr>
        <p:spPr>
          <a:xfrm>
            <a:off x="5645160" y="2670120"/>
            <a:ext cx="154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n – 6 = -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/>
          <p:nvPr/>
        </p:nvSpPr>
        <p:spPr>
          <a:xfrm>
            <a:off x="6061680" y="3075120"/>
            <a:ext cx="11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6      +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5762520" y="3454560"/>
            <a:ext cx="149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341760" y="2728800"/>
            <a:ext cx="5868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6108120" y="351144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n = -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6197760" y="38750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6734160" y="38750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6223680" y="3857760"/>
            <a:ext cx="81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    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6226200" y="3556080"/>
            <a:ext cx="217440" cy="63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6248160" y="423540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= -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4840" y="4414320"/>
            <a:ext cx="7924680" cy="19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olve an equ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possible, simplify the 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inverse operations to isolate the vari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ormul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lgebraic equation that relates two or more real life quant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= 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 t  (distance = rate •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 = P • r • t  (Interest = Principle • rate •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t may be necessary to solve the formula for a variable other than the one for which it is already sol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Examples:  Solve the following equations for d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859400" y="2298600"/>
            <a:ext cx="6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=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413080" y="2089080"/>
          <a:ext cx="306360" cy="75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3080" y="2089080"/>
                    <a:ext cx="30636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488960" y="228456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/>
          <p:nvPr/>
        </p:nvSpPr>
        <p:spPr>
          <a:xfrm>
            <a:off x="2622240" y="228456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408040" y="2374920"/>
            <a:ext cx="680760" cy="42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/>
          <p:nvPr/>
        </p:nvSpPr>
        <p:spPr>
          <a:xfrm>
            <a:off x="1746360" y="2911320"/>
            <a:ext cx="8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 = 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/>
          <p:nvPr/>
        </p:nvSpPr>
        <p:spPr>
          <a:xfrm>
            <a:off x="1863720" y="3476520"/>
            <a:ext cx="8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= 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/>
          <p:nvPr/>
        </p:nvSpPr>
        <p:spPr>
          <a:xfrm>
            <a:off x="4782960" y="2293920"/>
            <a:ext cx="55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=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5337000" y="2071800"/>
          <a:ext cx="306720" cy="77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7000" y="2071800"/>
                    <a:ext cx="30672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4413240" y="227952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/>
          <p:nvPr/>
        </p:nvSpPr>
        <p:spPr>
          <a:xfrm>
            <a:off x="5546880" y="227952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5332320" y="2370240"/>
            <a:ext cx="681120" cy="42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/>
          <p:nvPr/>
        </p:nvSpPr>
        <p:spPr>
          <a:xfrm>
            <a:off x="4712760" y="2906640"/>
            <a:ext cx="76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t = 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/>
          <p:nvPr/>
        </p:nvSpPr>
        <p:spPr>
          <a:xfrm>
            <a:off x="4758840" y="3471840"/>
            <a:ext cx="76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= 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4840" y="4414320"/>
            <a:ext cx="7924680" cy="19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olve a formula for another varia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inverse operations to isolate the vari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Examples:  Solve the following for the indicated variable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279440" y="2811600"/>
          <a:ext cx="405000" cy="73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9440" y="2811600"/>
                    <a:ext cx="405000" cy="7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874800" y="1577880"/>
            <a:ext cx="214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e I = Prt for 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/>
          <p:nvPr/>
        </p:nvSpPr>
        <p:spPr>
          <a:xfrm>
            <a:off x="1474920" y="205740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= P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/>
          <p:nvPr/>
        </p:nvSpPr>
        <p:spPr>
          <a:xfrm>
            <a:off x="1901880" y="2395440"/>
            <a:ext cx="40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1465200" y="2395440"/>
            <a:ext cx="23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1345320" y="2376360"/>
            <a:ext cx="97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    P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/>
          <p:nvPr/>
        </p:nvSpPr>
        <p:spPr>
          <a:xfrm>
            <a:off x="1916280" y="2104920"/>
            <a:ext cx="3474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1640520" y="300348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1475280" y="360360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989000" y="3406680"/>
          <a:ext cx="405000" cy="731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9000" y="3406680"/>
                    <a:ext cx="405000" cy="7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3473640" y="15177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e A = </a:t>
            </a:r>
            <a:r>
              <a:rPr b="0" lang="en-US" sz="2800" spc="-1" strike="noStrike">
                <a:solidFill>
                  <a:srgbClr val="000000"/>
                </a:solidFill>
                <a:latin typeface="Brush Script MT"/>
              </a:rPr>
              <a:t>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 for </a:t>
            </a:r>
            <a:r>
              <a:rPr b="0" lang="en-US" sz="2800" spc="-1" strike="noStrike">
                <a:solidFill>
                  <a:srgbClr val="000000"/>
                </a:solidFill>
                <a:latin typeface="Brush Script MT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4169160" y="2039760"/>
            <a:ext cx="98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= </a:t>
            </a:r>
            <a:r>
              <a:rPr b="0" lang="en-US" sz="2800" spc="-1" strike="noStrike">
                <a:solidFill>
                  <a:srgbClr val="000000"/>
                </a:solidFill>
                <a:latin typeface="Brush Script MT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4165560" y="2452680"/>
            <a:ext cx="3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/>
          <p:nvPr/>
        </p:nvSpPr>
        <p:spPr>
          <a:xfrm>
            <a:off x="4730760" y="2452680"/>
            <a:ext cx="39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/>
          <p:nvPr/>
        </p:nvSpPr>
        <p:spPr>
          <a:xfrm>
            <a:off x="4163040" y="2406600"/>
            <a:ext cx="9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     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4746240" y="2178000"/>
            <a:ext cx="320760" cy="56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073400" y="2833560"/>
          <a:ext cx="351000" cy="731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73400" y="2833560"/>
                    <a:ext cx="351000" cy="7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4391280" y="2968560"/>
            <a:ext cx="49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Brush Script MT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/>
          <p:nvPr/>
        </p:nvSpPr>
        <p:spPr>
          <a:xfrm>
            <a:off x="4227840" y="3522600"/>
            <a:ext cx="49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ush Script MT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737240" y="3378240"/>
          <a:ext cx="350640" cy="731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37240" y="3378240"/>
                    <a:ext cx="350640" cy="7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6114960" y="1608120"/>
            <a:ext cx="263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e A = ½ bh for b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/>
          <p:nvPr/>
        </p:nvSpPr>
        <p:spPr>
          <a:xfrm>
            <a:off x="6838920" y="2119320"/>
            <a:ext cx="12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= ½ b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/>
          <p:nvPr/>
        </p:nvSpPr>
        <p:spPr>
          <a:xfrm>
            <a:off x="6468840" y="211788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/>
          <p:nvPr/>
        </p:nvSpPr>
        <p:spPr>
          <a:xfrm>
            <a:off x="7934040" y="210168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/>
          <p:nvPr/>
        </p:nvSpPr>
        <p:spPr>
          <a:xfrm>
            <a:off x="7358040" y="2162160"/>
            <a:ext cx="290520" cy="29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/>
          <p:nvPr/>
        </p:nvSpPr>
        <p:spPr>
          <a:xfrm>
            <a:off x="8128080" y="2162160"/>
            <a:ext cx="233280" cy="23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/>
          <p:nvPr/>
        </p:nvSpPr>
        <p:spPr>
          <a:xfrm>
            <a:off x="6702840" y="2579760"/>
            <a:ext cx="106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A = b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/>
          <p:nvPr/>
        </p:nvSpPr>
        <p:spPr>
          <a:xfrm>
            <a:off x="6764400" y="2932200"/>
            <a:ext cx="36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/>
          <p:nvPr/>
        </p:nvSpPr>
        <p:spPr>
          <a:xfrm>
            <a:off x="7373880" y="2932200"/>
            <a:ext cx="3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/>
          <p:nvPr/>
        </p:nvSpPr>
        <p:spPr>
          <a:xfrm>
            <a:off x="6788520" y="2913120"/>
            <a:ext cx="95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       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7518240" y="2627280"/>
            <a:ext cx="1461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6681960" y="3286080"/>
          <a:ext cx="485640" cy="731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681960" y="3286080"/>
                    <a:ext cx="485640" cy="7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7094880" y="349416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/>
          <p:nvPr/>
        </p:nvSpPr>
        <p:spPr>
          <a:xfrm>
            <a:off x="6890040" y="408780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7400880" y="3902040"/>
          <a:ext cx="486000" cy="731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400880" y="3902040"/>
                    <a:ext cx="486000" cy="7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Examples:  Solve the following for the indicated variable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9760" y="1650960"/>
            <a:ext cx="301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e 3x = -2y + 10 for 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/>
          <p:nvPr/>
        </p:nvSpPr>
        <p:spPr>
          <a:xfrm>
            <a:off x="933840" y="2217600"/>
            <a:ext cx="166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x = -2y + 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/>
          <p:nvPr/>
        </p:nvSpPr>
        <p:spPr>
          <a:xfrm>
            <a:off x="838080" y="2581200"/>
            <a:ext cx="175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0            -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/>
          <p:nvPr/>
        </p:nvSpPr>
        <p:spPr>
          <a:xfrm>
            <a:off x="814320" y="2946240"/>
            <a:ext cx="178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/>
          <p:nvPr/>
        </p:nvSpPr>
        <p:spPr>
          <a:xfrm>
            <a:off x="2236680" y="2278080"/>
            <a:ext cx="304920" cy="62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/>
          <p:nvPr/>
        </p:nvSpPr>
        <p:spPr>
          <a:xfrm>
            <a:off x="375480" y="3002040"/>
            <a:ext cx="166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x – 10 = -2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/>
          <p:nvPr/>
        </p:nvSpPr>
        <p:spPr>
          <a:xfrm>
            <a:off x="422280" y="3367080"/>
            <a:ext cx="33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/>
          <p:nvPr/>
        </p:nvSpPr>
        <p:spPr>
          <a:xfrm>
            <a:off x="974880" y="3367080"/>
            <a:ext cx="3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/>
          <p:nvPr/>
        </p:nvSpPr>
        <p:spPr>
          <a:xfrm>
            <a:off x="1569960" y="3367080"/>
            <a:ext cx="39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/>
          <p:nvPr/>
        </p:nvSpPr>
        <p:spPr>
          <a:xfrm>
            <a:off x="344160" y="3319560"/>
            <a:ext cx="15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2     -2     -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/>
          <p:nvPr/>
        </p:nvSpPr>
        <p:spPr>
          <a:xfrm>
            <a:off x="1598760" y="3062160"/>
            <a:ext cx="231480" cy="6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/>
          <p:nvPr/>
        </p:nvSpPr>
        <p:spPr>
          <a:xfrm>
            <a:off x="309960" y="3772080"/>
            <a:ext cx="1478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+ 5 = 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/>
          <p:nvPr/>
        </p:nvSpPr>
        <p:spPr>
          <a:xfrm>
            <a:off x="1070640" y="4235400"/>
            <a:ext cx="1478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-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+ 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/>
          <p:nvPr/>
        </p:nvSpPr>
        <p:spPr>
          <a:xfrm>
            <a:off x="3232080" y="1668600"/>
            <a:ext cx="272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e 2x + y = -3 for 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/>
          <p:nvPr/>
        </p:nvSpPr>
        <p:spPr>
          <a:xfrm>
            <a:off x="3858120" y="2201760"/>
            <a:ext cx="138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x + y = -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/>
          <p:nvPr/>
        </p:nvSpPr>
        <p:spPr>
          <a:xfrm>
            <a:off x="3771360" y="2565360"/>
            <a:ext cx="159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2x          -2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/>
          <p:nvPr/>
        </p:nvSpPr>
        <p:spPr>
          <a:xfrm>
            <a:off x="3765600" y="2946240"/>
            <a:ext cx="15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/>
          <p:nvPr/>
        </p:nvSpPr>
        <p:spPr>
          <a:xfrm>
            <a:off x="3909960" y="2263680"/>
            <a:ext cx="347760" cy="63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/>
          <p:nvPr/>
        </p:nvSpPr>
        <p:spPr>
          <a:xfrm>
            <a:off x="4438080" y="301608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-2x -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/>
          <p:nvPr/>
        </p:nvSpPr>
        <p:spPr>
          <a:xfrm>
            <a:off x="5879880" y="1652760"/>
            <a:ext cx="286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e 5x = -3y + 7 for 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/>
          <p:nvPr/>
        </p:nvSpPr>
        <p:spPr>
          <a:xfrm>
            <a:off x="6594840" y="2147760"/>
            <a:ext cx="152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x = -3y + 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/>
          <p:nvPr/>
        </p:nvSpPr>
        <p:spPr>
          <a:xfrm>
            <a:off x="6642360" y="2465280"/>
            <a:ext cx="14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7            -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/>
          <p:nvPr/>
        </p:nvSpPr>
        <p:spPr>
          <a:xfrm>
            <a:off x="6647040" y="2816280"/>
            <a:ext cx="143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/>
          <p:nvPr/>
        </p:nvSpPr>
        <p:spPr>
          <a:xfrm>
            <a:off x="7896240" y="2192400"/>
            <a:ext cx="1303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/>
          <p:nvPr/>
        </p:nvSpPr>
        <p:spPr>
          <a:xfrm>
            <a:off x="6177960" y="2857680"/>
            <a:ext cx="151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x – 7 = -3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/>
          <p:nvPr/>
        </p:nvSpPr>
        <p:spPr>
          <a:xfrm>
            <a:off x="6211800" y="3235320"/>
            <a:ext cx="37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/>
          <p:nvPr/>
        </p:nvSpPr>
        <p:spPr>
          <a:xfrm>
            <a:off x="6748560" y="3235320"/>
            <a:ext cx="23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/>
          <p:nvPr/>
        </p:nvSpPr>
        <p:spPr>
          <a:xfrm>
            <a:off x="7227720" y="3235320"/>
            <a:ext cx="42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/>
          <p:nvPr/>
        </p:nvSpPr>
        <p:spPr>
          <a:xfrm>
            <a:off x="6205320" y="3206880"/>
            <a:ext cx="142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3   -3     -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/>
          <p:nvPr/>
        </p:nvSpPr>
        <p:spPr>
          <a:xfrm>
            <a:off x="7315200" y="2903400"/>
            <a:ext cx="231840" cy="66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/>
          <p:nvPr/>
        </p:nvSpPr>
        <p:spPr>
          <a:xfrm>
            <a:off x="5892120" y="3586320"/>
            <a:ext cx="1571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+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/>
          <p:nvPr/>
        </p:nvSpPr>
        <p:spPr>
          <a:xfrm>
            <a:off x="6760440" y="3986280"/>
            <a:ext cx="1571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-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+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Examples:  Solve the following for the indicated variable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55480" y="1681200"/>
            <a:ext cx="3151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e C =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 – 32) for F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/>
          <p:nvPr/>
        </p:nvSpPr>
        <p:spPr>
          <a:xfrm>
            <a:off x="1190160" y="2259000"/>
            <a:ext cx="1781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 – 3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/>
          <p:nvPr/>
        </p:nvSpPr>
        <p:spPr>
          <a:xfrm>
            <a:off x="2863800" y="2262240"/>
            <a:ext cx="574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/>
          <p:nvPr/>
        </p:nvSpPr>
        <p:spPr>
          <a:xfrm>
            <a:off x="716040" y="2249640"/>
            <a:ext cx="574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/>
          <p:nvPr/>
        </p:nvSpPr>
        <p:spPr>
          <a:xfrm>
            <a:off x="1711440" y="2322360"/>
            <a:ext cx="318960" cy="3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/>
          <p:nvPr/>
        </p:nvSpPr>
        <p:spPr>
          <a:xfrm>
            <a:off x="3046320" y="2322360"/>
            <a:ext cx="3193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/>
          <p:nvPr/>
        </p:nvSpPr>
        <p:spPr>
          <a:xfrm>
            <a:off x="932760" y="2784600"/>
            <a:ext cx="1680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F – 32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/>
          <p:nvPr/>
        </p:nvSpPr>
        <p:spPr>
          <a:xfrm>
            <a:off x="920520" y="3159000"/>
            <a:ext cx="167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32         +3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/>
          <p:nvPr/>
        </p:nvSpPr>
        <p:spPr>
          <a:xfrm>
            <a:off x="941400" y="3543480"/>
            <a:ext cx="1625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/>
          <p:nvPr/>
        </p:nvSpPr>
        <p:spPr>
          <a:xfrm>
            <a:off x="2174760" y="2844720"/>
            <a:ext cx="349200" cy="66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/>
          <p:nvPr/>
        </p:nvSpPr>
        <p:spPr>
          <a:xfrm>
            <a:off x="368640" y="3597120"/>
            <a:ext cx="1618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+ 32 = 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/>
          <p:nvPr/>
        </p:nvSpPr>
        <p:spPr>
          <a:xfrm>
            <a:off x="1224360" y="3990960"/>
            <a:ext cx="1618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+ 3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/>
          <p:nvPr/>
        </p:nvSpPr>
        <p:spPr>
          <a:xfrm>
            <a:off x="3839760" y="1708200"/>
            <a:ext cx="21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e I = Prt for 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4424400" y="2955960"/>
          <a:ext cx="431640" cy="75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2955960"/>
                    <a:ext cx="43164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"/>
          <p:cNvSpPr/>
          <p:nvPr/>
        </p:nvSpPr>
        <p:spPr>
          <a:xfrm>
            <a:off x="4632480" y="221472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= P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/>
          <p:nvPr/>
        </p:nvSpPr>
        <p:spPr>
          <a:xfrm>
            <a:off x="5059440" y="2552760"/>
            <a:ext cx="40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4622760" y="2552760"/>
            <a:ext cx="23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/>
          <p:nvPr/>
        </p:nvSpPr>
        <p:spPr>
          <a:xfrm>
            <a:off x="4503600" y="253368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t    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/>
          <p:nvPr/>
        </p:nvSpPr>
        <p:spPr>
          <a:xfrm>
            <a:off x="5073480" y="2262240"/>
            <a:ext cx="187560" cy="59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/>
          <p:nvPr/>
        </p:nvSpPr>
        <p:spPr>
          <a:xfrm>
            <a:off x="4797360" y="31608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/>
          <p:nvPr/>
        </p:nvSpPr>
        <p:spPr>
          <a:xfrm>
            <a:off x="4632480" y="37609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5133960" y="3551400"/>
          <a:ext cx="431640" cy="75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33960" y="3551400"/>
                    <a:ext cx="431640" cy="75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 flipH="1">
            <a:off x="5268600" y="2263680"/>
            <a:ext cx="174600" cy="63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/>
          <p:nvPr/>
        </p:nvSpPr>
        <p:spPr>
          <a:xfrm>
            <a:off x="6079320" y="1722600"/>
            <a:ext cx="248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e V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 for 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/>
          <p:nvPr/>
        </p:nvSpPr>
        <p:spPr>
          <a:xfrm>
            <a:off x="6757920" y="2208240"/>
            <a:ext cx="11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/>
          <p:nvPr/>
        </p:nvSpPr>
        <p:spPr>
          <a:xfrm>
            <a:off x="7286760" y="2554200"/>
            <a:ext cx="57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6807240" y="255420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/>
          <p:nvPr/>
        </p:nvSpPr>
        <p:spPr>
          <a:xfrm>
            <a:off x="6709680" y="2494080"/>
            <a:ext cx="114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r</a:t>
            </a:r>
            <a:r>
              <a:rPr b="0" lang="el-GR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/>
          <p:nvPr/>
        </p:nvSpPr>
        <p:spPr>
          <a:xfrm>
            <a:off x="7300800" y="2308320"/>
            <a:ext cx="479520" cy="49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6566040" y="2851200"/>
          <a:ext cx="539640" cy="787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66040" y="2851200"/>
                    <a:ext cx="53964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"/>
          <p:cNvSpPr/>
          <p:nvPr/>
        </p:nvSpPr>
        <p:spPr>
          <a:xfrm>
            <a:off x="6993360" y="307008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/>
          <p:nvPr/>
        </p:nvSpPr>
        <p:spPr>
          <a:xfrm>
            <a:off x="6771240" y="367020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 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7218360" y="3448080"/>
          <a:ext cx="539640" cy="785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218360" y="3448080"/>
                    <a:ext cx="53964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Examples:  Solve the following for the indicated variable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74760" y="1825560"/>
            <a:ext cx="26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e a =            for 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"/>
          <p:cNvSpPr/>
          <p:nvPr/>
        </p:nvSpPr>
        <p:spPr>
          <a:xfrm>
            <a:off x="2220840" y="4448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1600200" y="1633680"/>
          <a:ext cx="696960" cy="75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633680"/>
                    <a:ext cx="696960" cy="75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"/>
          <p:cNvSpPr/>
          <p:nvPr/>
        </p:nvSpPr>
        <p:spPr>
          <a:xfrm>
            <a:off x="1111680" y="2567160"/>
            <a:ext cx="6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724040" y="2386080"/>
          <a:ext cx="696960" cy="750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24040" y="2386080"/>
                    <a:ext cx="69696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"/>
          <p:cNvSpPr/>
          <p:nvPr/>
        </p:nvSpPr>
        <p:spPr>
          <a:xfrm>
            <a:off x="2340000" y="258120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/>
          <p:nvPr/>
        </p:nvSpPr>
        <p:spPr>
          <a:xfrm>
            <a:off x="741240" y="256536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1891800" y="2714760"/>
            <a:ext cx="941400" cy="3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/>
          <p:nvPr/>
        </p:nvSpPr>
        <p:spPr>
          <a:xfrm>
            <a:off x="984240" y="3159000"/>
            <a:ext cx="13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 = b + 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/>
          <p:nvPr/>
        </p:nvSpPr>
        <p:spPr>
          <a:xfrm>
            <a:off x="1058400" y="351000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b   -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/>
          <p:nvPr/>
        </p:nvSpPr>
        <p:spPr>
          <a:xfrm>
            <a:off x="919080" y="3875040"/>
            <a:ext cx="142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"/>
          <p:cNvSpPr/>
          <p:nvPr/>
        </p:nvSpPr>
        <p:spPr>
          <a:xfrm>
            <a:off x="1673280" y="3192480"/>
            <a:ext cx="117360" cy="63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/>
          <p:nvPr/>
        </p:nvSpPr>
        <p:spPr>
          <a:xfrm>
            <a:off x="537120" y="3887640"/>
            <a:ext cx="13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 – b = 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"/>
          <p:cNvSpPr/>
          <p:nvPr/>
        </p:nvSpPr>
        <p:spPr>
          <a:xfrm>
            <a:off x="1117800" y="4278240"/>
            <a:ext cx="124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ad - 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"/>
          <p:cNvSpPr/>
          <p:nvPr/>
        </p:nvSpPr>
        <p:spPr>
          <a:xfrm>
            <a:off x="3014280" y="1839960"/>
            <a:ext cx="236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e r =        for 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4168800" y="1641600"/>
          <a:ext cx="455760" cy="750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68800" y="1641600"/>
                    <a:ext cx="455760" cy="75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>
            <a:off x="3768840" y="2597040"/>
            <a:ext cx="55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=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4246560" y="2390760"/>
          <a:ext cx="455760" cy="750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46560" y="2390760"/>
                    <a:ext cx="45576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"/>
          <p:cNvSpPr/>
          <p:nvPr/>
        </p:nvSpPr>
        <p:spPr>
          <a:xfrm>
            <a:off x="4673520" y="2595600"/>
            <a:ext cx="5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"/>
          <p:cNvSpPr/>
          <p:nvPr/>
        </p:nvSpPr>
        <p:spPr>
          <a:xfrm>
            <a:off x="3322440" y="2610000"/>
            <a:ext cx="55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4254480" y="2712960"/>
            <a:ext cx="959040" cy="36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"/>
          <p:cNvSpPr/>
          <p:nvPr/>
        </p:nvSpPr>
        <p:spPr>
          <a:xfrm>
            <a:off x="3582720" y="3162240"/>
            <a:ext cx="106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rt = P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/>
          <p:nvPr/>
        </p:nvSpPr>
        <p:spPr>
          <a:xfrm>
            <a:off x="3630600" y="3527280"/>
            <a:ext cx="37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"/>
          <p:cNvSpPr/>
          <p:nvPr/>
        </p:nvSpPr>
        <p:spPr>
          <a:xfrm>
            <a:off x="4240080" y="3527280"/>
            <a:ext cx="34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/>
          <p:nvPr/>
        </p:nvSpPr>
        <p:spPr>
          <a:xfrm>
            <a:off x="3656160" y="3479760"/>
            <a:ext cx="92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      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4370040" y="3208320"/>
            <a:ext cx="174600" cy="57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3625920" y="3897360"/>
          <a:ext cx="455400" cy="725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25920" y="3897360"/>
                    <a:ext cx="45540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"/>
          <p:cNvSpPr/>
          <p:nvPr/>
        </p:nvSpPr>
        <p:spPr>
          <a:xfrm>
            <a:off x="3977640" y="4105440"/>
            <a:ext cx="56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"/>
          <p:cNvSpPr/>
          <p:nvPr/>
        </p:nvSpPr>
        <p:spPr>
          <a:xfrm>
            <a:off x="3728520" y="4670280"/>
            <a:ext cx="56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 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300560" y="4486320"/>
          <a:ext cx="455760" cy="725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300560" y="4486320"/>
                    <a:ext cx="45576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"/>
          <p:cNvSpPr/>
          <p:nvPr/>
        </p:nvSpPr>
        <p:spPr>
          <a:xfrm>
            <a:off x="5305680" y="1854360"/>
            <a:ext cx="3410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e A = ½ h(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for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/>
          <p:nvPr/>
        </p:nvSpPr>
        <p:spPr>
          <a:xfrm>
            <a:off x="6126840" y="2449440"/>
            <a:ext cx="1971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= ½ h(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/>
          <p:nvPr/>
        </p:nvSpPr>
        <p:spPr>
          <a:xfrm>
            <a:off x="7964280" y="246384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/>
          <p:nvPr/>
        </p:nvSpPr>
        <p:spPr>
          <a:xfrm>
            <a:off x="5759280" y="244944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/>
          <p:nvPr/>
        </p:nvSpPr>
        <p:spPr>
          <a:xfrm>
            <a:off x="6647040" y="2511360"/>
            <a:ext cx="290160" cy="26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"/>
          <p:cNvSpPr/>
          <p:nvPr/>
        </p:nvSpPr>
        <p:spPr>
          <a:xfrm>
            <a:off x="8156520" y="2525760"/>
            <a:ext cx="262080" cy="26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"/>
          <p:cNvSpPr/>
          <p:nvPr/>
        </p:nvSpPr>
        <p:spPr>
          <a:xfrm>
            <a:off x="5982840" y="2957400"/>
            <a:ext cx="1831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A = h(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"/>
          <p:cNvSpPr/>
          <p:nvPr/>
        </p:nvSpPr>
        <p:spPr>
          <a:xfrm>
            <a:off x="5965920" y="3367080"/>
            <a:ext cx="44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/>
          <p:nvPr/>
        </p:nvSpPr>
        <p:spPr>
          <a:xfrm>
            <a:off x="6662880" y="3352680"/>
            <a:ext cx="114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"/>
          <p:cNvSpPr/>
          <p:nvPr/>
        </p:nvSpPr>
        <p:spPr>
          <a:xfrm>
            <a:off x="6076800" y="3365640"/>
            <a:ext cx="123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           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/>
          <p:nvPr/>
        </p:nvSpPr>
        <p:spPr>
          <a:xfrm>
            <a:off x="6647040" y="3033720"/>
            <a:ext cx="609480" cy="65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5951520" y="3724200"/>
          <a:ext cx="480960" cy="725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951520" y="3724200"/>
                    <a:ext cx="48096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"/>
          <p:cNvSpPr/>
          <p:nvPr/>
        </p:nvSpPr>
        <p:spPr>
          <a:xfrm>
            <a:off x="6349320" y="3930480"/>
            <a:ext cx="1137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"/>
          <p:cNvSpPr/>
          <p:nvPr/>
        </p:nvSpPr>
        <p:spPr>
          <a:xfrm>
            <a:off x="5998680" y="4395960"/>
            <a:ext cx="1010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-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"/>
          <p:cNvSpPr/>
          <p:nvPr/>
        </p:nvSpPr>
        <p:spPr>
          <a:xfrm>
            <a:off x="5892840" y="4775040"/>
            <a:ext cx="168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"/>
          <p:cNvSpPr/>
          <p:nvPr/>
        </p:nvSpPr>
        <p:spPr>
          <a:xfrm>
            <a:off x="6689880" y="3990960"/>
            <a:ext cx="131760" cy="7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5392800" y="4618080"/>
          <a:ext cx="480960" cy="7254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392800" y="4618080"/>
                    <a:ext cx="48096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"/>
          <p:cNvSpPr/>
          <p:nvPr/>
        </p:nvSpPr>
        <p:spPr>
          <a:xfrm>
            <a:off x="5886000" y="4784760"/>
            <a:ext cx="1074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"/>
          <p:cNvSpPr/>
          <p:nvPr/>
        </p:nvSpPr>
        <p:spPr>
          <a:xfrm>
            <a:off x="6040440" y="5278320"/>
            <a:ext cx="1635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        -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6626160" y="5095800"/>
          <a:ext cx="480960" cy="725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626160" y="5095800"/>
                    <a:ext cx="48096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4T01:34:55Z</dcterms:created>
  <dc:creator>Leigh Anne Fitz</dc:creator>
  <dc:description/>
  <dc:language>en-US</dc:language>
  <cp:lastModifiedBy>Virginia Beach City Public Schools</cp:lastModifiedBy>
  <dcterms:modified xsi:type="dcterms:W3CDTF">2008-11-17T18:41:22Z</dcterms:modified>
  <cp:revision>11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08281033</vt:lpwstr>
  </property>
</Properties>
</file>